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E96-AC94-482B-B1D2-BE1EC9B3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A73-8591-42F8-B0D8-19AB1889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8AB-CDED-409D-89D6-9C0A785B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BD6-7563-41AB-84EA-D93BE4F9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98D-3326-4A12-AF4B-90408CF1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6AE-F935-4DA1-B282-92F4081C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DFE-E171-4121-897F-5BC82C14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352-C89C-47F2-8EA9-8566B5E4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3C3-1A4D-42C6-A725-03490C6B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5FF-9F6F-4583-9E26-F3F4CF01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B9A-0DB5-4592-9921-441C02ED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0DA-B9D8-4175-BF6D-693C11E3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5729-8CF8-4ACA-873E-D136ACFC5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taylo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daily extract of customer loss notifications from Siebel and Paperfree and make it available to CRs via the ERCOT 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CRs to modify their load profiles, purchasing power agreements and energy schedules for enhanced daily load fore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would provide CRs timely notification of pending loss of customer load for appropriate adjustments to power purchases and 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t on release of testing resources used for PR-40034 TX SET 2.1 implementation December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6094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080" y="597708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6076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990720"/>
            <a:ext cx="8156520" cy="47242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August 1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October 17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to be completed December 3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rrent project state:  Execu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documentation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oding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cycle currently on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080" y="597708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990720"/>
            <a:ext cx="8156520" cy="47242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tract data fields identified in SCR 739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I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 DUNs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SP DUNs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Reas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e next slide for op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Period End Date (SM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tract attributes defined in SCR 739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 output to DUNs number of Losing 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DDL for extract so CRs can discern extract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Note: DDL will NOT be in file contents rather will be a supplemental item available with other DDLs on 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 output file in .csv format to Market Participant folder within Repo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rer on ERCOT 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533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080" y="597708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990720"/>
            <a:ext cx="8156520" cy="47242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ommended Approach - (Service Order 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ternative 2  (Code for Service Order 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I (Move 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 (Swi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ternative 3 (Code in TxSET 814_06 REF~1P data el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0 (Move 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 (Swi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5335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ng Values of Status 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080" y="597708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Denise E. Tay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9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taylo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9 Pending Load Loss Reports for C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for more accurate and timely visibility into retail customer load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 time and cost incurred by CRs to adjust their power purchase forecasts and power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080" y="597708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614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ckatskee</cp:lastModifiedBy>
  <dcterms:modified xsi:type="dcterms:W3CDTF">2005-11-02T22:05:52Z</dcterms:modified>
  <cp:revision>220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2-38D4-A149-08521C1C1544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